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2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B5B-8910-4A17-B3AA-6173C913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094-146D-40B7-B920-6FD88C73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1E4-E36E-49F5-9A9F-6CDD1AD4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7BD-A147-4285-B0F6-48211D3D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28D-344D-4E4B-BD7A-97ADF7F7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E6F-BE3A-438C-9A9A-7869E819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94F-9989-4EBE-A9F2-1EDCEBD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961-2A28-4BC7-922D-C51589AF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51B-0185-4AB5-A3D3-AB29D8DB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BA1-8283-46C9-85E3-22C31A67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845-825E-4074-B1B5-88F7EDA9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EB5-7262-4AEA-BF00-D20012C3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15" descr="封面.png"/>
          <p:cNvPicPr/>
          <p:nvPr/>
        </p:nvPicPr>
        <p:blipFill>
          <a:blip r:embed="rId2"/>
          <a:stretch/>
        </p:blipFill>
        <p:spPr>
          <a:xfrm>
            <a:off x="-142920" y="0"/>
            <a:ext cx="2928960" cy="231300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0320-1FF1-409F-8AB8-7A818AE99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amera.wav"/><Relationship Id="rId4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6" descr=""/>
          <p:cNvPicPr/>
          <p:nvPr/>
        </p:nvPicPr>
        <p:blipFill>
          <a:blip r:embed="rId1"/>
          <a:stretch/>
        </p:blipFill>
        <p:spPr>
          <a:xfrm>
            <a:off x="2190600" y="1928880"/>
            <a:ext cx="4443480" cy="21286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236680" y="50004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上册 第七单元 分一分与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190600" y="4648320"/>
            <a:ext cx="5359680" cy="581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棠外附小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10"/>
          <p:cNvPicPr/>
          <p:nvPr/>
        </p:nvPicPr>
        <p:blipFill>
          <a:blip r:embed="rId1"/>
          <a:stretch/>
        </p:blipFill>
        <p:spPr>
          <a:xfrm>
            <a:off x="857160" y="93204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4" descr="12.png"/>
          <p:cNvPicPr/>
          <p:nvPr/>
        </p:nvPicPr>
        <p:blipFill>
          <a:blip r:embed="rId2"/>
          <a:stretch/>
        </p:blipFill>
        <p:spPr>
          <a:xfrm>
            <a:off x="714240" y="1785960"/>
            <a:ext cx="4918320" cy="68436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8" descr="17.png"/>
          <p:cNvPicPr/>
          <p:nvPr/>
        </p:nvPicPr>
        <p:blipFill>
          <a:blip r:embed="rId3"/>
          <a:stretch/>
        </p:blipFill>
        <p:spPr>
          <a:xfrm>
            <a:off x="1428840" y="247032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5" name="TextBox 4"/>
          <p:cNvSpPr/>
          <p:nvPr/>
        </p:nvSpPr>
        <p:spPr>
          <a:xfrm>
            <a:off x="3635280" y="692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动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6"/>
          <p:cNvSpPr/>
          <p:nvPr/>
        </p:nvSpPr>
        <p:spPr>
          <a:xfrm>
            <a:off x="8167680" y="1714680"/>
            <a:ext cx="57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还可平怎么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8" descr="17.png"/>
          <p:cNvPicPr/>
          <p:nvPr/>
        </p:nvPicPr>
        <p:blipFill>
          <a:blip r:embed="rId1"/>
          <a:stretch/>
        </p:blipFill>
        <p:spPr>
          <a:xfrm>
            <a:off x="1428840" y="200664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8" name="TextBox 5"/>
          <p:cNvSpPr/>
          <p:nvPr/>
        </p:nvSpPr>
        <p:spPr>
          <a:xfrm>
            <a:off x="1857240" y="39639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1"/>
          <p:cNvSpPr/>
          <p:nvPr/>
        </p:nvSpPr>
        <p:spPr>
          <a:xfrm>
            <a:off x="1857240" y="430380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   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2"/>
          <p:cNvSpPr/>
          <p:nvPr/>
        </p:nvSpPr>
        <p:spPr>
          <a:xfrm>
            <a:off x="1857240" y="464184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857240" y="49798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4"/>
          <p:cNvSpPr/>
          <p:nvPr/>
        </p:nvSpPr>
        <p:spPr>
          <a:xfrm>
            <a:off x="1857240" y="531972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5"/>
          <p:cNvSpPr/>
          <p:nvPr/>
        </p:nvSpPr>
        <p:spPr>
          <a:xfrm>
            <a:off x="1857240" y="56577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7"/>
          <p:cNvSpPr/>
          <p:nvPr/>
        </p:nvSpPr>
        <p:spPr>
          <a:xfrm>
            <a:off x="2860200" y="43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8"/>
          <p:cNvSpPr/>
          <p:nvPr/>
        </p:nvSpPr>
        <p:spPr>
          <a:xfrm>
            <a:off x="5500800" y="430380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9"/>
          <p:cNvSpPr/>
          <p:nvPr/>
        </p:nvSpPr>
        <p:spPr>
          <a:xfrm>
            <a:off x="2857680" y="464184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5500800" y="464184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21"/>
          <p:cNvSpPr/>
          <p:nvPr/>
        </p:nvSpPr>
        <p:spPr>
          <a:xfrm>
            <a:off x="2857680" y="4979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22"/>
          <p:cNvSpPr/>
          <p:nvPr/>
        </p:nvSpPr>
        <p:spPr>
          <a:xfrm>
            <a:off x="5500800" y="497988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3"/>
          <p:cNvSpPr/>
          <p:nvPr/>
        </p:nvSpPr>
        <p:spPr>
          <a:xfrm>
            <a:off x="2860200" y="53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4"/>
          <p:cNvSpPr/>
          <p:nvPr/>
        </p:nvSpPr>
        <p:spPr>
          <a:xfrm>
            <a:off x="5500800" y="531972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5"/>
          <p:cNvSpPr/>
          <p:nvPr/>
        </p:nvSpPr>
        <p:spPr>
          <a:xfrm>
            <a:off x="2857680" y="565776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26"/>
          <p:cNvSpPr/>
          <p:nvPr/>
        </p:nvSpPr>
        <p:spPr>
          <a:xfrm>
            <a:off x="5489640" y="56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组合 30"/>
          <p:cNvGrpSpPr/>
          <p:nvPr/>
        </p:nvGrpSpPr>
        <p:grpSpPr>
          <a:xfrm>
            <a:off x="1897200" y="285840"/>
            <a:ext cx="5246640" cy="3143160"/>
            <a:chOff x="1897200" y="285840"/>
            <a:chExt cx="5246640" cy="3143160"/>
          </a:xfrm>
        </p:grpSpPr>
        <p:pic>
          <p:nvPicPr>
            <p:cNvPr id="711" name="图片 18" descr="2.png"/>
            <p:cNvPicPr/>
            <p:nvPr/>
          </p:nvPicPr>
          <p:blipFill>
            <a:blip r:embed="rId1"/>
            <a:stretch/>
          </p:blipFill>
          <p:spPr>
            <a:xfrm>
              <a:off x="1897200" y="141588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图片 8" descr="2.png"/>
            <p:cNvPicPr/>
            <p:nvPr/>
          </p:nvPicPr>
          <p:blipFill>
            <a:blip r:embed="rId2"/>
            <a:stretch/>
          </p:blipFill>
          <p:spPr>
            <a:xfrm>
              <a:off x="3591000" y="44280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图片 3" descr="2.png"/>
            <p:cNvPicPr/>
            <p:nvPr/>
          </p:nvPicPr>
          <p:blipFill>
            <a:blip r:embed="rId3"/>
            <a:stretch/>
          </p:blipFill>
          <p:spPr>
            <a:xfrm>
              <a:off x="3438720" y="141588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4" descr="2.png"/>
            <p:cNvPicPr/>
            <p:nvPr/>
          </p:nvPicPr>
          <p:blipFill>
            <a:blip r:embed="rId4"/>
            <a:stretch/>
          </p:blipFill>
          <p:spPr>
            <a:xfrm>
              <a:off x="2616120" y="6253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9" descr="2.png"/>
            <p:cNvPicPr/>
            <p:nvPr/>
          </p:nvPicPr>
          <p:blipFill>
            <a:blip r:embed="rId5"/>
            <a:stretch/>
          </p:blipFill>
          <p:spPr>
            <a:xfrm>
              <a:off x="4503960" y="28584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图片 10" descr="2.png"/>
            <p:cNvPicPr/>
            <p:nvPr/>
          </p:nvPicPr>
          <p:blipFill>
            <a:blip r:embed="rId6"/>
            <a:stretch/>
          </p:blipFill>
          <p:spPr>
            <a:xfrm>
              <a:off x="5370840" y="66996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图片 6" descr="2.png"/>
            <p:cNvPicPr/>
            <p:nvPr/>
          </p:nvPicPr>
          <p:blipFill>
            <a:blip r:embed="rId7"/>
            <a:stretch/>
          </p:blipFill>
          <p:spPr>
            <a:xfrm>
              <a:off x="234648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11" descr="2.png"/>
            <p:cNvPicPr/>
            <p:nvPr/>
          </p:nvPicPr>
          <p:blipFill>
            <a:blip r:embed="rId8"/>
            <a:stretch/>
          </p:blipFill>
          <p:spPr>
            <a:xfrm>
              <a:off x="4654800" y="125712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图片 12" descr="2.png"/>
            <p:cNvPicPr/>
            <p:nvPr/>
          </p:nvPicPr>
          <p:blipFill>
            <a:blip r:embed="rId9"/>
            <a:stretch/>
          </p:blipFill>
          <p:spPr>
            <a:xfrm>
              <a:off x="547704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图片 13" descr="2.png"/>
            <p:cNvPicPr/>
            <p:nvPr/>
          </p:nvPicPr>
          <p:blipFill>
            <a:blip r:embed="rId10"/>
            <a:stretch/>
          </p:blipFill>
          <p:spPr>
            <a:xfrm>
              <a:off x="6277320" y="15289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图片 7" descr="2.png"/>
            <p:cNvPicPr/>
            <p:nvPr/>
          </p:nvPicPr>
          <p:blipFill>
            <a:blip r:embed="rId11"/>
            <a:stretch/>
          </p:blipFill>
          <p:spPr>
            <a:xfrm>
              <a:off x="3438720" y="235764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14" descr="2.png"/>
            <p:cNvPicPr/>
            <p:nvPr/>
          </p:nvPicPr>
          <p:blipFill>
            <a:blip r:embed="rId12"/>
            <a:stretch/>
          </p:blipFill>
          <p:spPr>
            <a:xfrm>
              <a:off x="4491000" y="2457720"/>
              <a:ext cx="866520" cy="9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3" name="图片 23" descr="17.png"/>
          <p:cNvPicPr/>
          <p:nvPr/>
        </p:nvPicPr>
        <p:blipFill>
          <a:blip r:embed="rId13"/>
          <a:stretch/>
        </p:blipFill>
        <p:spPr>
          <a:xfrm>
            <a:off x="2346480" y="4554360"/>
            <a:ext cx="977760" cy="2016360"/>
          </a:xfrm>
          <a:prstGeom prst="rect">
            <a:avLst/>
          </a:prstGeom>
          <a:ln w="0">
            <a:noFill/>
          </a:ln>
        </p:spPr>
      </p:pic>
      <p:grpSp>
        <p:nvGrpSpPr>
          <p:cNvPr id="724" name="组合 18"/>
          <p:cNvGrpSpPr/>
          <p:nvPr/>
        </p:nvGrpSpPr>
        <p:grpSpPr>
          <a:xfrm>
            <a:off x="5183280" y="4554360"/>
            <a:ext cx="3592440" cy="2041560"/>
            <a:chOff x="5183280" y="4554360"/>
            <a:chExt cx="3592440" cy="2041560"/>
          </a:xfrm>
        </p:grpSpPr>
        <p:pic>
          <p:nvPicPr>
            <p:cNvPr id="725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328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9440" y="4785840"/>
              <a:ext cx="746280" cy="157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手操作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人一组，用信封里的圆片代替苹果按照淘气的要求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人分，一人记录分的过程，然后互换角色继续动手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18" descr="2.png"/>
          <p:cNvPicPr/>
          <p:nvPr/>
        </p:nvPicPr>
        <p:blipFill>
          <a:blip r:embed="rId1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8" descr="2.png"/>
          <p:cNvPicPr/>
          <p:nvPr/>
        </p:nvPicPr>
        <p:blipFill>
          <a:blip r:embed="rId2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" descr="2.png"/>
          <p:cNvPicPr/>
          <p:nvPr/>
        </p:nvPicPr>
        <p:blipFill>
          <a:blip r:embed="rId3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4" descr="2.png"/>
          <p:cNvPicPr/>
          <p:nvPr/>
        </p:nvPicPr>
        <p:blipFill>
          <a:blip r:embed="rId4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9" descr="2.png"/>
          <p:cNvPicPr/>
          <p:nvPr/>
        </p:nvPicPr>
        <p:blipFill>
          <a:blip r:embed="rId5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0" descr="2.png"/>
          <p:cNvPicPr/>
          <p:nvPr/>
        </p:nvPicPr>
        <p:blipFill>
          <a:blip r:embed="rId6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6" descr="2.png"/>
          <p:cNvPicPr/>
          <p:nvPr/>
        </p:nvPicPr>
        <p:blipFill>
          <a:blip r:embed="rId7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1" descr="2.png"/>
          <p:cNvPicPr/>
          <p:nvPr/>
        </p:nvPicPr>
        <p:blipFill>
          <a:blip r:embed="rId8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2" descr="2.png"/>
          <p:cNvPicPr/>
          <p:nvPr/>
        </p:nvPicPr>
        <p:blipFill>
          <a:blip r:embed="rId9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3" descr="2.png"/>
          <p:cNvPicPr/>
          <p:nvPr/>
        </p:nvPicPr>
        <p:blipFill>
          <a:blip r:embed="rId10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2.png"/>
          <p:cNvPicPr/>
          <p:nvPr/>
        </p:nvPicPr>
        <p:blipFill>
          <a:blip r:embed="rId11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4" descr="2.png"/>
          <p:cNvPicPr/>
          <p:nvPr/>
        </p:nvPicPr>
        <p:blipFill>
          <a:blip r:embed="rId12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0"/>
          <p:cNvSpPr/>
          <p:nvPr/>
        </p:nvSpPr>
        <p:spPr>
          <a:xfrm>
            <a:off x="1080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1"/>
          <p:cNvSpPr/>
          <p:nvPr/>
        </p:nvSpPr>
        <p:spPr>
          <a:xfrm>
            <a:off x="3000240" y="4581360"/>
            <a:ext cx="250848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2"/>
          <p:cNvSpPr/>
          <p:nvPr/>
        </p:nvSpPr>
        <p:spPr>
          <a:xfrm>
            <a:off x="58896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36"/>
          <p:cNvGrpSpPr/>
          <p:nvPr/>
        </p:nvGrpSpPr>
        <p:grpSpPr>
          <a:xfrm>
            <a:off x="2346480" y="4554360"/>
            <a:ext cx="6467400" cy="2041560"/>
            <a:chOff x="2346480" y="4554360"/>
            <a:chExt cx="6467400" cy="2041560"/>
          </a:xfrm>
        </p:grpSpPr>
        <p:pic>
          <p:nvPicPr>
            <p:cNvPr id="747" name="图片 23" descr="17.png"/>
            <p:cNvPicPr/>
            <p:nvPr/>
          </p:nvPicPr>
          <p:blipFill>
            <a:blip r:embed="rId13"/>
            <a:stretch/>
          </p:blipFill>
          <p:spPr>
            <a:xfrm>
              <a:off x="2346480" y="4554360"/>
              <a:ext cx="97776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220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8360" y="4782960"/>
              <a:ext cx="785520" cy="15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3.05556E-006 0.01249 L -0.23507 0.57873 E">
                                      <p:cBhvr>
                                        <p:cTn id="49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1.11111E-006 0.01249 L -0.08663 0.46151 E">
                                      <p:cBhvr>
                                        <p:cTn id="51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-3.05556E-006 0.01248 L -0.20468 0.43699 E">
                                      <p:cBhvr>
                                        <p:cTn id="53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4.16667E-006 0.01249 L -0.25191 0.68578 E">
                                      <p:cBhvr>
                                        <p:cTn id="55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5.55556E-007 4.45087E-006 L -0.0158 0.44902 E">
                                      <p:cBhvr>
                                        <p:cTn id="59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8.09249E-006 L -0.0158 0.3896 E">
                                      <p:cBhvr>
                                        <p:cTn id="61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1.66667E-006 6.93642E-007 L -0.05503 0.63769 E">
                                      <p:cBhvr>
                                        <p:cTn id="63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1.11111E-006 -3.52601E-006 L -0.05503 0.3896 E">
                                      <p:cBhvr>
                                        <p:cTn id="65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-2.83237E-006 L 0.19636 0.48463 E">
                                      <p:cBhvr>
                                        <p:cTn id="6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5.55556E-006 8.43931E-006 L 0.18126 0.55168 E">
                                      <p:cBhvr>
                                        <p:cTn id="71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1.94444E-006 -5.54913E-006 L 0.11806 0.41271 E">
                                      <p:cBhvr>
                                        <p:cTn id="73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4.16667E-006 -4.04624E-007 L 0.08212 0.4978 E">
                                      <p:cBhvr>
                                        <p:cTn id="75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33" descr="9.png"/>
          <p:cNvPicPr/>
          <p:nvPr/>
        </p:nvPicPr>
        <p:blipFill>
          <a:blip r:embed="rId1"/>
          <a:stretch/>
        </p:blipFill>
        <p:spPr>
          <a:xfrm>
            <a:off x="4602240" y="3890880"/>
            <a:ext cx="1838160" cy="20923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33" descr="9.png"/>
          <p:cNvPicPr/>
          <p:nvPr/>
        </p:nvPicPr>
        <p:blipFill>
          <a:blip r:embed="rId2"/>
          <a:stretch/>
        </p:blipFill>
        <p:spPr>
          <a:xfrm>
            <a:off x="2762280" y="3890880"/>
            <a:ext cx="1839960" cy="2092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33" descr="9.png"/>
          <p:cNvPicPr/>
          <p:nvPr/>
        </p:nvPicPr>
        <p:blipFill>
          <a:blip r:embed="rId3"/>
          <a:stretch/>
        </p:blipFill>
        <p:spPr>
          <a:xfrm>
            <a:off x="977760" y="3890880"/>
            <a:ext cx="1838520" cy="209088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8" descr="2.png"/>
          <p:cNvPicPr/>
          <p:nvPr/>
        </p:nvPicPr>
        <p:blipFill>
          <a:blip r:embed="rId4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3" descr="2.png"/>
          <p:cNvPicPr/>
          <p:nvPr/>
        </p:nvPicPr>
        <p:blipFill>
          <a:blip r:embed="rId5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" descr="2.png"/>
          <p:cNvPicPr/>
          <p:nvPr/>
        </p:nvPicPr>
        <p:blipFill>
          <a:blip r:embed="rId6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10" descr="2.png"/>
          <p:cNvPicPr/>
          <p:nvPr/>
        </p:nvPicPr>
        <p:blipFill>
          <a:blip r:embed="rId7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2.png"/>
          <p:cNvPicPr/>
          <p:nvPr/>
        </p:nvPicPr>
        <p:blipFill>
          <a:blip r:embed="rId8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8" descr="2.png"/>
          <p:cNvPicPr/>
          <p:nvPr/>
        </p:nvPicPr>
        <p:blipFill>
          <a:blip r:embed="rId9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9" descr="2.png"/>
          <p:cNvPicPr/>
          <p:nvPr/>
        </p:nvPicPr>
        <p:blipFill>
          <a:blip r:embed="rId10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11" descr="2.png"/>
          <p:cNvPicPr/>
          <p:nvPr/>
        </p:nvPicPr>
        <p:blipFill>
          <a:blip r:embed="rId11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2" descr="2.png"/>
          <p:cNvPicPr/>
          <p:nvPr/>
        </p:nvPicPr>
        <p:blipFill>
          <a:blip r:embed="rId12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3" descr="2.png"/>
          <p:cNvPicPr/>
          <p:nvPr/>
        </p:nvPicPr>
        <p:blipFill>
          <a:blip r:embed="rId13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" descr="2.png"/>
          <p:cNvPicPr/>
          <p:nvPr/>
        </p:nvPicPr>
        <p:blipFill>
          <a:blip r:embed="rId14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14" descr="2.png"/>
          <p:cNvPicPr/>
          <p:nvPr/>
        </p:nvPicPr>
        <p:blipFill>
          <a:blip r:embed="rId15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9"/>
          <p:cNvSpPr/>
          <p:nvPr/>
        </p:nvSpPr>
        <p:spPr>
          <a:xfrm>
            <a:off x="2319120" y="34290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苹果，每袋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需要几个袋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1.38889E-006 1.48148E-006 L -0.16632 0.62292 E">
                                      <p:cBhvr>
                                        <p:cTn id="9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 -4.81481E-006 L -0.08663 0.44908 E">
                                      <p:cBhvr>
                                        <p:cTn id="93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5E-006 4.81481E-006 L -0.054 0.37129 E">
                                      <p:cBhvr>
                                        <p:cTn id="95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0053 3.33333E-006 L -0.21579 0.65416 E">
                                      <p:cBhvr>
                                        <p:cTn id="97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2.5E-006 -4.81481E-006 L -0.05729 0.44283 E">
                                      <p:cBhvr>
                                        <p:cTn id="10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1.11111E-006 3.33333E-006 L -0.04931 0.375 E">
                                      <p:cBhvr>
                                        <p:cTn id="108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5.55556E-007 1.38778E-017 L -0.11146 0.58449 E">
                                      <p:cBhvr>
                                        <p:cTn id="110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1.66667E-006 3.33333E-006 L -0.11007 0.35578 E">
                                      <p:cBhvr>
                                        <p:cTn id="112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-2.22222E-006 1.48148E-006 L -2.22222E-006 0.55162 E">
                                      <p:cBhvr>
                                        <p:cTn id="121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4.16667E-006 4.81481E-006 L -0.01163 0.40601 E">
                                      <p:cBhvr>
                                        <p:cTn id="123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-4.16667E-006 0 L -0.16302 0.42639 E">
                                      <p:cBhvr>
                                        <p:cTn id="125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3.33333E-006 L 0.01441 0.53541 E">
                                      <p:cBhvr>
                                        <p:cTn id="127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组合 46"/>
          <p:cNvGrpSpPr/>
          <p:nvPr/>
        </p:nvGrpSpPr>
        <p:grpSpPr>
          <a:xfrm>
            <a:off x="3049560" y="1569960"/>
            <a:ext cx="3933720" cy="1128600"/>
            <a:chOff x="3049560" y="1569960"/>
            <a:chExt cx="3933720" cy="1128600"/>
          </a:xfrm>
        </p:grpSpPr>
        <p:grpSp>
          <p:nvGrpSpPr>
            <p:cNvPr id="767" name="Group 15"/>
            <p:cNvGrpSpPr/>
            <p:nvPr/>
          </p:nvGrpSpPr>
          <p:grpSpPr>
            <a:xfrm>
              <a:off x="3049560" y="1569960"/>
              <a:ext cx="1123200" cy="1033920"/>
              <a:chOff x="3049560" y="1569960"/>
              <a:chExt cx="1123200" cy="1033920"/>
            </a:xfrm>
          </p:grpSpPr>
          <p:pic>
            <p:nvPicPr>
              <p:cNvPr id="768" name="图片 8" descr="2.png"/>
              <p:cNvPicPr/>
              <p:nvPr/>
            </p:nvPicPr>
            <p:blipFill>
              <a:blip r:embed="rId1"/>
              <a:stretch/>
            </p:blipFill>
            <p:spPr>
              <a:xfrm>
                <a:off x="3049560" y="1569960"/>
                <a:ext cx="6026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图片 4" descr="2.png"/>
              <p:cNvPicPr/>
              <p:nvPr/>
            </p:nvPicPr>
            <p:blipFill>
              <a:blip r:embed="rId2"/>
              <a:stretch/>
            </p:blipFill>
            <p:spPr>
              <a:xfrm>
                <a:off x="3570840" y="162396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图片 9" descr="2.png"/>
              <p:cNvPicPr/>
              <p:nvPr/>
            </p:nvPicPr>
            <p:blipFill>
              <a:blip r:embed="rId3"/>
              <a:stretch/>
            </p:blipFill>
            <p:spPr>
              <a:xfrm>
                <a:off x="3570840" y="189612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3049560" y="1881720"/>
                <a:ext cx="602640" cy="70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2" name="Group 16"/>
            <p:cNvGrpSpPr/>
            <p:nvPr/>
          </p:nvGrpSpPr>
          <p:grpSpPr>
            <a:xfrm>
              <a:off x="4434120" y="1584360"/>
              <a:ext cx="1146240" cy="1060200"/>
              <a:chOff x="4434120" y="1584360"/>
              <a:chExt cx="1146240" cy="1060200"/>
            </a:xfrm>
          </p:grpSpPr>
          <p:pic>
            <p:nvPicPr>
              <p:cNvPr id="773" name="图片 8" descr="2.png"/>
              <p:cNvPicPr/>
              <p:nvPr/>
            </p:nvPicPr>
            <p:blipFill>
              <a:blip r:embed="rId5"/>
              <a:stretch/>
            </p:blipFill>
            <p:spPr>
              <a:xfrm>
                <a:off x="4434120" y="1584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4" name="图片 4" descr="2.png"/>
              <p:cNvPicPr/>
              <p:nvPr/>
            </p:nvPicPr>
            <p:blipFill>
              <a:blip r:embed="rId6"/>
              <a:stretch/>
            </p:blipFill>
            <p:spPr>
              <a:xfrm>
                <a:off x="4955760" y="1638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图片 9" descr="2.png"/>
              <p:cNvPicPr/>
              <p:nvPr/>
            </p:nvPicPr>
            <p:blipFill>
              <a:blip r:embed="rId7"/>
              <a:stretch/>
            </p:blipFill>
            <p:spPr>
              <a:xfrm>
                <a:off x="4955760" y="1910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图片 10" descr="2.png"/>
              <p:cNvPicPr/>
              <p:nvPr/>
            </p:nvPicPr>
            <p:blipFill>
              <a:blip r:embed="rId8"/>
              <a:stretch/>
            </p:blipFill>
            <p:spPr>
              <a:xfrm>
                <a:off x="4434120" y="1896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Group 21"/>
            <p:cNvGrpSpPr/>
            <p:nvPr/>
          </p:nvGrpSpPr>
          <p:grpSpPr>
            <a:xfrm>
              <a:off x="5837040" y="1638360"/>
              <a:ext cx="1146240" cy="1060200"/>
              <a:chOff x="5837040" y="1638360"/>
              <a:chExt cx="1146240" cy="1060200"/>
            </a:xfrm>
          </p:grpSpPr>
          <p:pic>
            <p:nvPicPr>
              <p:cNvPr id="778" name="图片 8" descr="2.png"/>
              <p:cNvPicPr/>
              <p:nvPr/>
            </p:nvPicPr>
            <p:blipFill>
              <a:blip r:embed="rId9"/>
              <a:stretch/>
            </p:blipFill>
            <p:spPr>
              <a:xfrm>
                <a:off x="5837040" y="1638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图片 4" descr="2.png"/>
              <p:cNvPicPr/>
              <p:nvPr/>
            </p:nvPicPr>
            <p:blipFill>
              <a:blip r:embed="rId10"/>
              <a:stretch/>
            </p:blipFill>
            <p:spPr>
              <a:xfrm>
                <a:off x="6358680" y="1692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图片 9" descr="2.png"/>
              <p:cNvPicPr/>
              <p:nvPr/>
            </p:nvPicPr>
            <p:blipFill>
              <a:blip r:embed="rId11"/>
              <a:stretch/>
            </p:blipFill>
            <p:spPr>
              <a:xfrm>
                <a:off x="6358680" y="1964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图片 10" descr="2.png"/>
              <p:cNvPicPr/>
              <p:nvPr/>
            </p:nvPicPr>
            <p:blipFill>
              <a:blip r:embed="rId12"/>
              <a:stretch/>
            </p:blipFill>
            <p:spPr>
              <a:xfrm>
                <a:off x="5837040" y="1950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2" name="Text Box 26"/>
          <p:cNvSpPr/>
          <p:nvPr/>
        </p:nvSpPr>
        <p:spPr>
          <a:xfrm>
            <a:off x="2903400" y="290340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袋装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组合 47"/>
          <p:cNvGrpSpPr/>
          <p:nvPr/>
        </p:nvGrpSpPr>
        <p:grpSpPr>
          <a:xfrm>
            <a:off x="7322040" y="1305000"/>
            <a:ext cx="1155240" cy="4176720"/>
            <a:chOff x="7322040" y="1305000"/>
            <a:chExt cx="1155240" cy="4176720"/>
          </a:xfrm>
        </p:grpSpPr>
        <p:sp>
          <p:nvSpPr>
            <p:cNvPr id="784" name="AutoShape 52"/>
            <p:cNvSpPr/>
            <p:nvPr/>
          </p:nvSpPr>
          <p:spPr>
            <a:xfrm>
              <a:off x="7510320" y="1305000"/>
              <a:ext cx="295200" cy="417672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53"/>
            <p:cNvSpPr/>
            <p:nvPr/>
          </p:nvSpPr>
          <p:spPr>
            <a:xfrm>
              <a:off x="7322040" y="2671920"/>
              <a:ext cx="11552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平均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63"/>
          <p:cNvGrpSpPr/>
          <p:nvPr/>
        </p:nvGrpSpPr>
        <p:grpSpPr>
          <a:xfrm>
            <a:off x="2016000" y="781200"/>
            <a:ext cx="4646880" cy="4833720"/>
            <a:chOff x="2016000" y="781200"/>
            <a:chExt cx="4646880" cy="4833720"/>
          </a:xfrm>
        </p:grpSpPr>
        <p:sp>
          <p:nvSpPr>
            <p:cNvPr id="787" name="Text Box 14"/>
            <p:cNvSpPr/>
            <p:nvPr/>
          </p:nvSpPr>
          <p:spPr>
            <a:xfrm>
              <a:off x="2837160" y="781200"/>
              <a:ext cx="38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均分给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个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52"/>
            <p:cNvSpPr/>
            <p:nvPr/>
          </p:nvSpPr>
          <p:spPr>
            <a:xfrm rot="10800000">
              <a:off x="2016000" y="1437480"/>
              <a:ext cx="295200" cy="417744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7440"/>
                <a:gd name="textAreaBottom" fmla="*/ 4068720 h 41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50"/>
          <p:cNvGrpSpPr/>
          <p:nvPr/>
        </p:nvGrpSpPr>
        <p:grpSpPr>
          <a:xfrm>
            <a:off x="479520" y="2149560"/>
            <a:ext cx="1536480" cy="2568600"/>
            <a:chOff x="479520" y="2149560"/>
            <a:chExt cx="1536480" cy="2568600"/>
          </a:xfrm>
        </p:grpSpPr>
        <p:pic>
          <p:nvPicPr>
            <p:cNvPr id="790" name="图片 51" descr="2.png"/>
            <p:cNvPicPr/>
            <p:nvPr/>
          </p:nvPicPr>
          <p:blipFill>
            <a:blip r:embed="rId13"/>
            <a:stretch/>
          </p:blipFill>
          <p:spPr>
            <a:xfrm>
              <a:off x="479520" y="30733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图片 8" descr="2.png"/>
            <p:cNvPicPr/>
            <p:nvPr/>
          </p:nvPicPr>
          <p:blipFill>
            <a:blip r:embed="rId14"/>
            <a:stretch/>
          </p:blipFill>
          <p:spPr>
            <a:xfrm>
              <a:off x="975600" y="227772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图片 3" descr="2.png"/>
            <p:cNvPicPr/>
            <p:nvPr/>
          </p:nvPicPr>
          <p:blipFill>
            <a:blip r:embed="rId15"/>
            <a:stretch/>
          </p:blipFill>
          <p:spPr>
            <a:xfrm>
              <a:off x="930960" y="307332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图片 4" descr="2.png"/>
            <p:cNvPicPr/>
            <p:nvPr/>
          </p:nvPicPr>
          <p:blipFill>
            <a:blip r:embed="rId16"/>
            <a:stretch/>
          </p:blipFill>
          <p:spPr>
            <a:xfrm>
              <a:off x="690120" y="2427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图片 9" descr="2.png"/>
            <p:cNvPicPr/>
            <p:nvPr/>
          </p:nvPicPr>
          <p:blipFill>
            <a:blip r:embed="rId17"/>
            <a:stretch/>
          </p:blipFill>
          <p:spPr>
            <a:xfrm>
              <a:off x="1242720" y="214956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图片 10" descr="2.png"/>
            <p:cNvPicPr/>
            <p:nvPr/>
          </p:nvPicPr>
          <p:blipFill>
            <a:blip r:embed="rId18"/>
            <a:stretch/>
          </p:blipFill>
          <p:spPr>
            <a:xfrm>
              <a:off x="1496880" y="246348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图片 6" descr="2.png"/>
            <p:cNvPicPr/>
            <p:nvPr/>
          </p:nvPicPr>
          <p:blipFill>
            <a:blip r:embed="rId19"/>
            <a:stretch/>
          </p:blipFill>
          <p:spPr>
            <a:xfrm>
              <a:off x="61092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图片 11" descr="2.png"/>
            <p:cNvPicPr/>
            <p:nvPr/>
          </p:nvPicPr>
          <p:blipFill>
            <a:blip r:embed="rId20"/>
            <a:stretch/>
          </p:blipFill>
          <p:spPr>
            <a:xfrm>
              <a:off x="1287000" y="294336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图片 12" descr="2.png"/>
            <p:cNvPicPr/>
            <p:nvPr/>
          </p:nvPicPr>
          <p:blipFill>
            <a:blip r:embed="rId21"/>
            <a:stretch/>
          </p:blipFill>
          <p:spPr>
            <a:xfrm>
              <a:off x="152784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图片 13" descr="2.png"/>
            <p:cNvPicPr/>
            <p:nvPr/>
          </p:nvPicPr>
          <p:blipFill>
            <a:blip r:embed="rId22"/>
            <a:stretch/>
          </p:blipFill>
          <p:spPr>
            <a:xfrm>
              <a:off x="1762200" y="3165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图片 7" descr="2.png"/>
            <p:cNvPicPr/>
            <p:nvPr/>
          </p:nvPicPr>
          <p:blipFill>
            <a:blip r:embed="rId23"/>
            <a:stretch/>
          </p:blipFill>
          <p:spPr>
            <a:xfrm>
              <a:off x="930960" y="384264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图片 14" descr="2.png"/>
            <p:cNvPicPr/>
            <p:nvPr/>
          </p:nvPicPr>
          <p:blipFill>
            <a:blip r:embed="rId24"/>
            <a:stretch/>
          </p:blipFill>
          <p:spPr>
            <a:xfrm>
              <a:off x="1239120" y="3924360"/>
              <a:ext cx="25380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2" name="Oval 54"/>
          <p:cNvSpPr/>
          <p:nvPr/>
        </p:nvSpPr>
        <p:spPr>
          <a:xfrm>
            <a:off x="2878200" y="1438200"/>
            <a:ext cx="1295280" cy="127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56"/>
          <p:cNvSpPr/>
          <p:nvPr/>
        </p:nvSpPr>
        <p:spPr>
          <a:xfrm>
            <a:off x="4280040" y="1411200"/>
            <a:ext cx="1352520" cy="1306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7"/>
          <p:cNvSpPr/>
          <p:nvPr/>
        </p:nvSpPr>
        <p:spPr>
          <a:xfrm>
            <a:off x="5764320" y="1438200"/>
            <a:ext cx="1295280" cy="126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组合 72"/>
          <p:cNvGrpSpPr/>
          <p:nvPr/>
        </p:nvGrpSpPr>
        <p:grpSpPr>
          <a:xfrm>
            <a:off x="2446200" y="3521160"/>
            <a:ext cx="1727280" cy="2187360"/>
            <a:chOff x="2446200" y="3521160"/>
            <a:chExt cx="1727280" cy="2187360"/>
          </a:xfrm>
        </p:grpSpPr>
        <p:pic>
          <p:nvPicPr>
            <p:cNvPr id="806" name="图片 33" descr="9.png"/>
            <p:cNvPicPr/>
            <p:nvPr/>
          </p:nvPicPr>
          <p:blipFill>
            <a:blip r:embed="rId25"/>
            <a:stretch/>
          </p:blipFill>
          <p:spPr>
            <a:xfrm>
              <a:off x="2446200" y="3521160"/>
              <a:ext cx="172728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图片 8" descr="2.png"/>
            <p:cNvPicPr/>
            <p:nvPr/>
          </p:nvPicPr>
          <p:blipFill>
            <a:blip r:embed="rId26"/>
            <a:stretch/>
          </p:blipFill>
          <p:spPr>
            <a:xfrm>
              <a:off x="2643120" y="400212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图片 9" descr="2.png"/>
            <p:cNvPicPr/>
            <p:nvPr/>
          </p:nvPicPr>
          <p:blipFill>
            <a:blip r:embed="rId27"/>
            <a:stretch/>
          </p:blipFill>
          <p:spPr>
            <a:xfrm>
              <a:off x="3223440" y="4604040"/>
              <a:ext cx="6973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图片 10" descr="2.png"/>
            <p:cNvPicPr/>
            <p:nvPr/>
          </p:nvPicPr>
          <p:blipFill>
            <a:blip r:embed="rId28"/>
            <a:stretch/>
          </p:blipFill>
          <p:spPr>
            <a:xfrm>
              <a:off x="2643120" y="460404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图片 9" descr="2.png"/>
            <p:cNvPicPr/>
            <p:nvPr/>
          </p:nvPicPr>
          <p:blipFill>
            <a:blip r:embed="rId29"/>
            <a:stretch/>
          </p:blipFill>
          <p:spPr>
            <a:xfrm>
              <a:off x="3223440" y="4002120"/>
              <a:ext cx="697320" cy="87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组合 85"/>
          <p:cNvGrpSpPr/>
          <p:nvPr/>
        </p:nvGrpSpPr>
        <p:grpSpPr>
          <a:xfrm>
            <a:off x="4197240" y="3532320"/>
            <a:ext cx="1725840" cy="2185920"/>
            <a:chOff x="4197240" y="3532320"/>
            <a:chExt cx="1725840" cy="2185920"/>
          </a:xfrm>
        </p:grpSpPr>
        <p:pic>
          <p:nvPicPr>
            <p:cNvPr id="812" name="图片 33" descr="9.png"/>
            <p:cNvPicPr/>
            <p:nvPr/>
          </p:nvPicPr>
          <p:blipFill>
            <a:blip r:embed="rId30"/>
            <a:stretch/>
          </p:blipFill>
          <p:spPr>
            <a:xfrm>
              <a:off x="4197240" y="3532320"/>
              <a:ext cx="172584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图片 8" descr="2.png"/>
            <p:cNvPicPr/>
            <p:nvPr/>
          </p:nvPicPr>
          <p:blipFill>
            <a:blip r:embed="rId31"/>
            <a:stretch/>
          </p:blipFill>
          <p:spPr>
            <a:xfrm>
              <a:off x="4394160" y="401292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图片 9" descr="2.png"/>
            <p:cNvPicPr/>
            <p:nvPr/>
          </p:nvPicPr>
          <p:blipFill>
            <a:blip r:embed="rId32"/>
            <a:stretch/>
          </p:blipFill>
          <p:spPr>
            <a:xfrm>
              <a:off x="4973760" y="461448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图片 10" descr="2.png"/>
            <p:cNvPicPr/>
            <p:nvPr/>
          </p:nvPicPr>
          <p:blipFill>
            <a:blip r:embed="rId33"/>
            <a:stretch/>
          </p:blipFill>
          <p:spPr>
            <a:xfrm>
              <a:off x="4394160" y="461448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图片 9" descr="2.png"/>
            <p:cNvPicPr/>
            <p:nvPr/>
          </p:nvPicPr>
          <p:blipFill>
            <a:blip r:embed="rId34"/>
            <a:stretch/>
          </p:blipFill>
          <p:spPr>
            <a:xfrm>
              <a:off x="4973760" y="401292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组合 91"/>
          <p:cNvGrpSpPr/>
          <p:nvPr/>
        </p:nvGrpSpPr>
        <p:grpSpPr>
          <a:xfrm>
            <a:off x="5837400" y="3543480"/>
            <a:ext cx="1725480" cy="2185920"/>
            <a:chOff x="5837400" y="3543480"/>
            <a:chExt cx="1725480" cy="2185920"/>
          </a:xfrm>
        </p:grpSpPr>
        <p:pic>
          <p:nvPicPr>
            <p:cNvPr id="818" name="图片 33" descr="9.png"/>
            <p:cNvPicPr/>
            <p:nvPr/>
          </p:nvPicPr>
          <p:blipFill>
            <a:blip r:embed="rId35"/>
            <a:stretch/>
          </p:blipFill>
          <p:spPr>
            <a:xfrm>
              <a:off x="5837400" y="3543480"/>
              <a:ext cx="172548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图片 8" descr="2.png"/>
            <p:cNvPicPr/>
            <p:nvPr/>
          </p:nvPicPr>
          <p:blipFill>
            <a:blip r:embed="rId36"/>
            <a:stretch/>
          </p:blipFill>
          <p:spPr>
            <a:xfrm>
              <a:off x="6033960" y="402408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图片 9" descr="2.png"/>
            <p:cNvPicPr/>
            <p:nvPr/>
          </p:nvPicPr>
          <p:blipFill>
            <a:blip r:embed="rId37"/>
            <a:stretch/>
          </p:blipFill>
          <p:spPr>
            <a:xfrm>
              <a:off x="6613920" y="462564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图片 10" descr="2.png"/>
            <p:cNvPicPr/>
            <p:nvPr/>
          </p:nvPicPr>
          <p:blipFill>
            <a:blip r:embed="rId38"/>
            <a:stretch/>
          </p:blipFill>
          <p:spPr>
            <a:xfrm>
              <a:off x="6033960" y="462564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图片 9" descr="2.png"/>
            <p:cNvPicPr/>
            <p:nvPr/>
          </p:nvPicPr>
          <p:blipFill>
            <a:blip r:embed="rId39"/>
            <a:stretch/>
          </p:blipFill>
          <p:spPr>
            <a:xfrm>
              <a:off x="6613920" y="402408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文本框 5"/>
          <p:cNvSpPr/>
          <p:nvPr/>
        </p:nvSpPr>
        <p:spPr>
          <a:xfrm>
            <a:off x="479520" y="4894200"/>
            <a:ext cx="15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苹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40"/>
          <a:stretch/>
        </p:blipFill>
        <p:spPr>
          <a:xfrm>
            <a:off x="976320" y="220680"/>
            <a:ext cx="69832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6" name="TextBox 4"/>
          <p:cNvSpPr/>
          <p:nvPr/>
        </p:nvSpPr>
        <p:spPr>
          <a:xfrm>
            <a:off x="500040" y="1643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3" descr="7.png"/>
          <p:cNvPicPr/>
          <p:nvPr/>
        </p:nvPicPr>
        <p:blipFill>
          <a:blip r:embed="rId2"/>
          <a:stretch/>
        </p:blipFill>
        <p:spPr>
          <a:xfrm>
            <a:off x="1285920" y="1357200"/>
            <a:ext cx="6407280" cy="3340080"/>
          </a:xfrm>
          <a:prstGeom prst="rect">
            <a:avLst/>
          </a:prstGeom>
          <a:ln w="0">
            <a:noFill/>
          </a:ln>
        </p:spPr>
      </p:pic>
      <p:grpSp>
        <p:nvGrpSpPr>
          <p:cNvPr id="828" name="组合 16"/>
          <p:cNvGrpSpPr/>
          <p:nvPr/>
        </p:nvGrpSpPr>
        <p:grpSpPr>
          <a:xfrm>
            <a:off x="857160" y="4697280"/>
            <a:ext cx="7529760" cy="581400"/>
            <a:chOff x="857160" y="4697280"/>
            <a:chExt cx="7529760" cy="581400"/>
          </a:xfrm>
        </p:grpSpPr>
        <p:sp>
          <p:nvSpPr>
            <p:cNvPr id="829" name="TextBox 4"/>
            <p:cNvSpPr/>
            <p:nvPr/>
          </p:nvSpPr>
          <p:spPr>
            <a:xfrm>
              <a:off x="857160" y="4697280"/>
              <a:ext cx="75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需要   只小兔才能一次运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15"/>
            <p:cNvSpPr/>
            <p:nvPr/>
          </p:nvSpPr>
          <p:spPr>
            <a:xfrm>
              <a:off x="1812600" y="4727160"/>
              <a:ext cx="539640" cy="54180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1800"/>
                <a:gd name="textAreaBottom" fmla="*/ 515520 h 541800"/>
              </a:gdLst>
              <a:ahLst/>
              <a:rect l="textAreaLeft" t="textAreaTop" r="textAreaRight" b="textAreaBottom"/>
              <a:pathLst>
                <a:path w="21600" h="21686">
                  <a:moveTo>
                    <a:pt x="3600" y="0"/>
                  </a:moveTo>
                  <a:arcTo wR="3600" hR="3600" stAng="16200000" swAng="-5400000"/>
                  <a:lnTo>
                    <a:pt x="0" y="18086"/>
                  </a:lnTo>
                  <a:arcTo wR="3600" hR="3600" stAng="10800000" swAng="-5400000"/>
                  <a:lnTo>
                    <a:pt x="18000" y="21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任意多边形 17"/>
          <p:cNvSpPr/>
          <p:nvPr/>
        </p:nvSpPr>
        <p:spPr>
          <a:xfrm>
            <a:off x="1947960" y="3503520"/>
            <a:ext cx="1197000" cy="887400"/>
          </a:xfrm>
          <a:custGeom>
            <a:avLst/>
            <a:gdLst/>
            <a:ahLst/>
            <a:rect l="l" t="t" r="r" b="b"/>
            <a:pathLst>
              <a:path w="1197607" h="887259">
                <a:moveTo>
                  <a:pt x="142162" y="118753"/>
                </a:moveTo>
                <a:cubicBezTo>
                  <a:pt x="66968" y="137551"/>
                  <a:pt x="103715" y="117048"/>
                  <a:pt x="47160" y="201880"/>
                </a:cubicBezTo>
                <a:lnTo>
                  <a:pt x="23409" y="237506"/>
                </a:lnTo>
                <a:cubicBezTo>
                  <a:pt x="0" y="307735"/>
                  <a:pt x="2395" y="284683"/>
                  <a:pt x="23409" y="403761"/>
                </a:cubicBezTo>
                <a:cubicBezTo>
                  <a:pt x="27760" y="428415"/>
                  <a:pt x="39243" y="451262"/>
                  <a:pt x="47160" y="475013"/>
                </a:cubicBezTo>
                <a:cubicBezTo>
                  <a:pt x="56819" y="503990"/>
                  <a:pt x="59764" y="523243"/>
                  <a:pt x="82786" y="546265"/>
                </a:cubicBezTo>
                <a:cubicBezTo>
                  <a:pt x="96781" y="560260"/>
                  <a:pt x="115260" y="569010"/>
                  <a:pt x="130287" y="581891"/>
                </a:cubicBezTo>
                <a:cubicBezTo>
                  <a:pt x="197687" y="639662"/>
                  <a:pt x="130594" y="599858"/>
                  <a:pt x="213414" y="641267"/>
                </a:cubicBezTo>
                <a:cubicBezTo>
                  <a:pt x="221331" y="653142"/>
                  <a:pt x="227073" y="666801"/>
                  <a:pt x="237165" y="676893"/>
                </a:cubicBezTo>
                <a:cubicBezTo>
                  <a:pt x="260187" y="699915"/>
                  <a:pt x="279440" y="702860"/>
                  <a:pt x="308417" y="712519"/>
                </a:cubicBezTo>
                <a:cubicBezTo>
                  <a:pt x="410517" y="780586"/>
                  <a:pt x="281337" y="698979"/>
                  <a:pt x="379669" y="748145"/>
                </a:cubicBezTo>
                <a:cubicBezTo>
                  <a:pt x="392435" y="754528"/>
                  <a:pt x="402529" y="765513"/>
                  <a:pt x="415295" y="771896"/>
                </a:cubicBezTo>
                <a:cubicBezTo>
                  <a:pt x="434272" y="781384"/>
                  <a:pt x="480673" y="790576"/>
                  <a:pt x="498422" y="795647"/>
                </a:cubicBezTo>
                <a:cubicBezTo>
                  <a:pt x="510458" y="799086"/>
                  <a:pt x="521904" y="804486"/>
                  <a:pt x="534048" y="807522"/>
                </a:cubicBezTo>
                <a:cubicBezTo>
                  <a:pt x="553629" y="812417"/>
                  <a:pt x="573951" y="814086"/>
                  <a:pt x="593424" y="819397"/>
                </a:cubicBezTo>
                <a:cubicBezTo>
                  <a:pt x="617577" y="825984"/>
                  <a:pt x="640925" y="835231"/>
                  <a:pt x="664676" y="843148"/>
                </a:cubicBezTo>
                <a:cubicBezTo>
                  <a:pt x="676551" y="847106"/>
                  <a:pt x="687955" y="852965"/>
                  <a:pt x="700302" y="855023"/>
                </a:cubicBezTo>
                <a:lnTo>
                  <a:pt x="771554" y="866898"/>
                </a:lnTo>
                <a:cubicBezTo>
                  <a:pt x="783429" y="870857"/>
                  <a:pt x="794662" y="878774"/>
                  <a:pt x="807180" y="878774"/>
                </a:cubicBezTo>
                <a:cubicBezTo>
                  <a:pt x="995722" y="878774"/>
                  <a:pt x="959851" y="887259"/>
                  <a:pt x="1056562" y="855023"/>
                </a:cubicBezTo>
                <a:cubicBezTo>
                  <a:pt x="1087302" y="824283"/>
                  <a:pt x="1125483" y="790760"/>
                  <a:pt x="1139689" y="748145"/>
                </a:cubicBezTo>
                <a:cubicBezTo>
                  <a:pt x="1143648" y="736270"/>
                  <a:pt x="1145967" y="723715"/>
                  <a:pt x="1151565" y="712519"/>
                </a:cubicBezTo>
                <a:cubicBezTo>
                  <a:pt x="1197607" y="620436"/>
                  <a:pt x="1157340" y="730814"/>
                  <a:pt x="1187191" y="641267"/>
                </a:cubicBezTo>
                <a:cubicBezTo>
                  <a:pt x="1183232" y="597724"/>
                  <a:pt x="1181094" y="553978"/>
                  <a:pt x="1175315" y="510639"/>
                </a:cubicBezTo>
                <a:cubicBezTo>
                  <a:pt x="1173158" y="494461"/>
                  <a:pt x="1165922" y="479268"/>
                  <a:pt x="1163440" y="463137"/>
                </a:cubicBezTo>
                <a:cubicBezTo>
                  <a:pt x="1157990" y="427709"/>
                  <a:pt x="1163815" y="389947"/>
                  <a:pt x="1151565" y="356260"/>
                </a:cubicBezTo>
                <a:cubicBezTo>
                  <a:pt x="1146688" y="342847"/>
                  <a:pt x="1127814" y="340426"/>
                  <a:pt x="1115939" y="332509"/>
                </a:cubicBezTo>
                <a:cubicBezTo>
                  <a:pt x="1108022" y="320634"/>
                  <a:pt x="1102280" y="306975"/>
                  <a:pt x="1092188" y="296883"/>
                </a:cubicBezTo>
                <a:cubicBezTo>
                  <a:pt x="1069166" y="273861"/>
                  <a:pt x="1049913" y="270916"/>
                  <a:pt x="1020936" y="261257"/>
                </a:cubicBezTo>
                <a:cubicBezTo>
                  <a:pt x="997583" y="226226"/>
                  <a:pt x="995849" y="218580"/>
                  <a:pt x="961560" y="190005"/>
                </a:cubicBezTo>
                <a:cubicBezTo>
                  <a:pt x="950596" y="180868"/>
                  <a:pt x="936898" y="175391"/>
                  <a:pt x="925934" y="166254"/>
                </a:cubicBezTo>
                <a:cubicBezTo>
                  <a:pt x="913032" y="155503"/>
                  <a:pt x="904890" y="138960"/>
                  <a:pt x="890308" y="130628"/>
                </a:cubicBezTo>
                <a:cubicBezTo>
                  <a:pt x="876137" y="122530"/>
                  <a:pt x="858640" y="122711"/>
                  <a:pt x="842806" y="118753"/>
                </a:cubicBezTo>
                <a:cubicBezTo>
                  <a:pt x="815097" y="98961"/>
                  <a:pt x="788878" y="76896"/>
                  <a:pt x="759679" y="59376"/>
                </a:cubicBezTo>
                <a:cubicBezTo>
                  <a:pt x="693305" y="19552"/>
                  <a:pt x="684184" y="18378"/>
                  <a:pt x="629050" y="0"/>
                </a:cubicBezTo>
                <a:lnTo>
                  <a:pt x="379669" y="11875"/>
                </a:lnTo>
                <a:cubicBezTo>
                  <a:pt x="237604" y="20485"/>
                  <a:pt x="278993" y="9806"/>
                  <a:pt x="201539" y="35626"/>
                </a:cubicBezTo>
                <a:cubicBezTo>
                  <a:pt x="182537" y="92628"/>
                  <a:pt x="204706" y="57793"/>
                  <a:pt x="154037" y="83127"/>
                </a:cubicBezTo>
                <a:cubicBezTo>
                  <a:pt x="141271" y="89510"/>
                  <a:pt x="118411" y="106878"/>
                  <a:pt x="142162" y="11875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任意多边形 18"/>
          <p:cNvSpPr/>
          <p:nvPr/>
        </p:nvSpPr>
        <p:spPr>
          <a:xfrm>
            <a:off x="2819520" y="3371760"/>
            <a:ext cx="1393560" cy="1100160"/>
          </a:xfrm>
          <a:custGeom>
            <a:avLst/>
            <a:gdLst/>
            <a:ahLst/>
            <a:rect l="l" t="t" r="r" b="b"/>
            <a:pathLst>
              <a:path w="1392392" h="1099032">
                <a:moveTo>
                  <a:pt x="1312452" y="1068779"/>
                </a:moveTo>
                <a:cubicBezTo>
                  <a:pt x="1257034" y="1066800"/>
                  <a:pt x="1266452" y="1088850"/>
                  <a:pt x="1015569" y="1068779"/>
                </a:cubicBezTo>
                <a:cubicBezTo>
                  <a:pt x="1003091" y="1067781"/>
                  <a:pt x="991979" y="1060343"/>
                  <a:pt x="979943" y="1056904"/>
                </a:cubicBezTo>
                <a:cubicBezTo>
                  <a:pt x="964250" y="1052420"/>
                  <a:pt x="948541" y="1047712"/>
                  <a:pt x="932442" y="1045029"/>
                </a:cubicBezTo>
                <a:cubicBezTo>
                  <a:pt x="900962" y="1039782"/>
                  <a:pt x="869107" y="1037112"/>
                  <a:pt x="837439" y="1033153"/>
                </a:cubicBezTo>
                <a:cubicBezTo>
                  <a:pt x="739633" y="1000552"/>
                  <a:pt x="790971" y="1012944"/>
                  <a:pt x="683060" y="997527"/>
                </a:cubicBezTo>
                <a:cubicBezTo>
                  <a:pt x="654016" y="983006"/>
                  <a:pt x="625115" y="971011"/>
                  <a:pt x="599933" y="950026"/>
                </a:cubicBezTo>
                <a:cubicBezTo>
                  <a:pt x="508511" y="873840"/>
                  <a:pt x="617121" y="949609"/>
                  <a:pt x="528681" y="890650"/>
                </a:cubicBezTo>
                <a:cubicBezTo>
                  <a:pt x="520764" y="874816"/>
                  <a:pt x="515989" y="856972"/>
                  <a:pt x="504930" y="843148"/>
                </a:cubicBezTo>
                <a:cubicBezTo>
                  <a:pt x="483947" y="816920"/>
                  <a:pt x="433678" y="771896"/>
                  <a:pt x="433678" y="771896"/>
                </a:cubicBezTo>
                <a:cubicBezTo>
                  <a:pt x="403830" y="682349"/>
                  <a:pt x="444093" y="792727"/>
                  <a:pt x="398052" y="700644"/>
                </a:cubicBezTo>
                <a:cubicBezTo>
                  <a:pt x="392454" y="689448"/>
                  <a:pt x="391775" y="676214"/>
                  <a:pt x="386177" y="665018"/>
                </a:cubicBezTo>
                <a:cubicBezTo>
                  <a:pt x="369644" y="631953"/>
                  <a:pt x="353063" y="620029"/>
                  <a:pt x="326800" y="593766"/>
                </a:cubicBezTo>
                <a:cubicBezTo>
                  <a:pt x="322842" y="581891"/>
                  <a:pt x="318364" y="570176"/>
                  <a:pt x="314925" y="558140"/>
                </a:cubicBezTo>
                <a:cubicBezTo>
                  <a:pt x="306474" y="528562"/>
                  <a:pt x="306080" y="496438"/>
                  <a:pt x="279299" y="475013"/>
                </a:cubicBezTo>
                <a:cubicBezTo>
                  <a:pt x="269524" y="467193"/>
                  <a:pt x="255548" y="467096"/>
                  <a:pt x="243673" y="463138"/>
                </a:cubicBezTo>
                <a:cubicBezTo>
                  <a:pt x="221175" y="395647"/>
                  <a:pt x="240649" y="436365"/>
                  <a:pt x="160545" y="356260"/>
                </a:cubicBezTo>
                <a:lnTo>
                  <a:pt x="124920" y="320634"/>
                </a:lnTo>
                <a:cubicBezTo>
                  <a:pt x="120961" y="308759"/>
                  <a:pt x="118642" y="296204"/>
                  <a:pt x="113044" y="285008"/>
                </a:cubicBezTo>
                <a:cubicBezTo>
                  <a:pt x="99698" y="258317"/>
                  <a:pt x="76181" y="232517"/>
                  <a:pt x="53668" y="213756"/>
                </a:cubicBezTo>
                <a:cubicBezTo>
                  <a:pt x="42704" y="204619"/>
                  <a:pt x="29917" y="197922"/>
                  <a:pt x="18042" y="190005"/>
                </a:cubicBezTo>
                <a:cubicBezTo>
                  <a:pt x="0" y="135882"/>
                  <a:pt x="1322" y="158367"/>
                  <a:pt x="18042" y="83127"/>
                </a:cubicBezTo>
                <a:cubicBezTo>
                  <a:pt x="20757" y="70908"/>
                  <a:pt x="21066" y="56353"/>
                  <a:pt x="29917" y="47502"/>
                </a:cubicBezTo>
                <a:cubicBezTo>
                  <a:pt x="50101" y="27318"/>
                  <a:pt x="101169" y="0"/>
                  <a:pt x="101169" y="0"/>
                </a:cubicBezTo>
                <a:cubicBezTo>
                  <a:pt x="144712" y="3959"/>
                  <a:pt x="189045" y="2715"/>
                  <a:pt x="231797" y="11876"/>
                </a:cubicBezTo>
                <a:cubicBezTo>
                  <a:pt x="328947" y="32694"/>
                  <a:pt x="198750" y="52793"/>
                  <a:pt x="314925" y="23751"/>
                </a:cubicBezTo>
                <a:cubicBezTo>
                  <a:pt x="350551" y="27709"/>
                  <a:pt x="386445" y="29733"/>
                  <a:pt x="421803" y="35626"/>
                </a:cubicBezTo>
                <a:cubicBezTo>
                  <a:pt x="466574" y="43088"/>
                  <a:pt x="452025" y="50737"/>
                  <a:pt x="493055" y="71252"/>
                </a:cubicBezTo>
                <a:cubicBezTo>
                  <a:pt x="504251" y="76850"/>
                  <a:pt x="516806" y="79169"/>
                  <a:pt x="528681" y="83127"/>
                </a:cubicBezTo>
                <a:cubicBezTo>
                  <a:pt x="596743" y="185223"/>
                  <a:pt x="506117" y="65076"/>
                  <a:pt x="588057" y="130629"/>
                </a:cubicBezTo>
                <a:cubicBezTo>
                  <a:pt x="599202" y="139545"/>
                  <a:pt x="600663" y="157339"/>
                  <a:pt x="611808" y="166255"/>
                </a:cubicBezTo>
                <a:cubicBezTo>
                  <a:pt x="621583" y="174075"/>
                  <a:pt x="635928" y="173199"/>
                  <a:pt x="647434" y="178130"/>
                </a:cubicBezTo>
                <a:cubicBezTo>
                  <a:pt x="663705" y="185103"/>
                  <a:pt x="679101" y="193964"/>
                  <a:pt x="694935" y="201881"/>
                </a:cubicBezTo>
                <a:cubicBezTo>
                  <a:pt x="750353" y="285008"/>
                  <a:pt x="718685" y="257300"/>
                  <a:pt x="778062" y="296883"/>
                </a:cubicBezTo>
                <a:cubicBezTo>
                  <a:pt x="845356" y="397823"/>
                  <a:pt x="734519" y="241465"/>
                  <a:pt x="873065" y="380011"/>
                </a:cubicBezTo>
                <a:cubicBezTo>
                  <a:pt x="884940" y="391886"/>
                  <a:pt x="897940" y="402735"/>
                  <a:pt x="908691" y="415637"/>
                </a:cubicBezTo>
                <a:cubicBezTo>
                  <a:pt x="917828" y="426601"/>
                  <a:pt x="921297" y="442347"/>
                  <a:pt x="932442" y="451263"/>
                </a:cubicBezTo>
                <a:cubicBezTo>
                  <a:pt x="942217" y="459083"/>
                  <a:pt x="956193" y="459180"/>
                  <a:pt x="968068" y="463138"/>
                </a:cubicBezTo>
                <a:cubicBezTo>
                  <a:pt x="975985" y="475013"/>
                  <a:pt x="981726" y="488672"/>
                  <a:pt x="991818" y="498764"/>
                </a:cubicBezTo>
                <a:cubicBezTo>
                  <a:pt x="1001910" y="508856"/>
                  <a:pt x="1018528" y="511369"/>
                  <a:pt x="1027444" y="522514"/>
                </a:cubicBezTo>
                <a:cubicBezTo>
                  <a:pt x="1035264" y="532289"/>
                  <a:pt x="1035361" y="546265"/>
                  <a:pt x="1039320" y="558140"/>
                </a:cubicBezTo>
                <a:cubicBezTo>
                  <a:pt x="1031497" y="581608"/>
                  <a:pt x="1024620" y="612651"/>
                  <a:pt x="1003694" y="629392"/>
                </a:cubicBezTo>
                <a:cubicBezTo>
                  <a:pt x="993919" y="637212"/>
                  <a:pt x="979943" y="637309"/>
                  <a:pt x="968068" y="641268"/>
                </a:cubicBezTo>
                <a:cubicBezTo>
                  <a:pt x="960151" y="653143"/>
                  <a:pt x="941518" y="662899"/>
                  <a:pt x="944317" y="676894"/>
                </a:cubicBezTo>
                <a:cubicBezTo>
                  <a:pt x="947116" y="690889"/>
                  <a:pt x="966901" y="694848"/>
                  <a:pt x="979943" y="700644"/>
                </a:cubicBezTo>
                <a:cubicBezTo>
                  <a:pt x="979958" y="700651"/>
                  <a:pt x="1069000" y="730330"/>
                  <a:pt x="1086821" y="736270"/>
                </a:cubicBezTo>
                <a:cubicBezTo>
                  <a:pt x="1098696" y="740229"/>
                  <a:pt x="1110006" y="746764"/>
                  <a:pt x="1122447" y="748146"/>
                </a:cubicBezTo>
                <a:lnTo>
                  <a:pt x="1229325" y="760021"/>
                </a:lnTo>
                <a:cubicBezTo>
                  <a:pt x="1241200" y="763979"/>
                  <a:pt x="1253755" y="766298"/>
                  <a:pt x="1264951" y="771896"/>
                </a:cubicBezTo>
                <a:cubicBezTo>
                  <a:pt x="1298016" y="788429"/>
                  <a:pt x="1309940" y="805010"/>
                  <a:pt x="1336203" y="831273"/>
                </a:cubicBezTo>
                <a:cubicBezTo>
                  <a:pt x="1365824" y="920139"/>
                  <a:pt x="1392392" y="969869"/>
                  <a:pt x="1348078" y="1080655"/>
                </a:cubicBezTo>
                <a:cubicBezTo>
                  <a:pt x="1340727" y="1099032"/>
                  <a:pt x="1367870" y="1070758"/>
                  <a:pt x="1312452" y="1068779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19"/>
          <p:cNvSpPr/>
          <p:nvPr/>
        </p:nvSpPr>
        <p:spPr>
          <a:xfrm>
            <a:off x="3681360" y="3322800"/>
            <a:ext cx="1244520" cy="847440"/>
          </a:xfrm>
          <a:custGeom>
            <a:avLst/>
            <a:gdLst/>
            <a:ahLst/>
            <a:rect l="l" t="t" r="r" b="b"/>
            <a:pathLst>
              <a:path w="1244139" h="848633">
                <a:moveTo>
                  <a:pt x="617517" y="3181"/>
                </a:moveTo>
                <a:cubicBezTo>
                  <a:pt x="516577" y="3181"/>
                  <a:pt x="284372" y="0"/>
                  <a:pt x="118753" y="15056"/>
                </a:cubicBezTo>
                <a:cubicBezTo>
                  <a:pt x="104539" y="16348"/>
                  <a:pt x="104139" y="39718"/>
                  <a:pt x="95002" y="50682"/>
                </a:cubicBezTo>
                <a:cubicBezTo>
                  <a:pt x="84251" y="63584"/>
                  <a:pt x="71251" y="74433"/>
                  <a:pt x="59376" y="86308"/>
                </a:cubicBezTo>
                <a:cubicBezTo>
                  <a:pt x="55418" y="98183"/>
                  <a:pt x="53099" y="110738"/>
                  <a:pt x="47501" y="121934"/>
                </a:cubicBezTo>
                <a:cubicBezTo>
                  <a:pt x="41118" y="134700"/>
                  <a:pt x="29372" y="144442"/>
                  <a:pt x="23750" y="157560"/>
                </a:cubicBezTo>
                <a:cubicBezTo>
                  <a:pt x="11752" y="185555"/>
                  <a:pt x="2752" y="268928"/>
                  <a:pt x="0" y="288189"/>
                </a:cubicBezTo>
                <a:cubicBezTo>
                  <a:pt x="3958" y="319856"/>
                  <a:pt x="23" y="353560"/>
                  <a:pt x="11875" y="383191"/>
                </a:cubicBezTo>
                <a:cubicBezTo>
                  <a:pt x="17176" y="396443"/>
                  <a:pt x="37409" y="396850"/>
                  <a:pt x="47501" y="406942"/>
                </a:cubicBezTo>
                <a:cubicBezTo>
                  <a:pt x="101215" y="460656"/>
                  <a:pt x="37522" y="431325"/>
                  <a:pt x="106878" y="454443"/>
                </a:cubicBezTo>
                <a:cubicBezTo>
                  <a:pt x="122712" y="478194"/>
                  <a:pt x="145352" y="498615"/>
                  <a:pt x="154379" y="525695"/>
                </a:cubicBezTo>
                <a:cubicBezTo>
                  <a:pt x="182643" y="610487"/>
                  <a:pt x="164243" y="576116"/>
                  <a:pt x="201880" y="632573"/>
                </a:cubicBezTo>
                <a:cubicBezTo>
                  <a:pt x="173617" y="717365"/>
                  <a:pt x="198961" y="689938"/>
                  <a:pt x="142504" y="727576"/>
                </a:cubicBezTo>
                <a:cubicBezTo>
                  <a:pt x="204501" y="768906"/>
                  <a:pt x="150591" y="739498"/>
                  <a:pt x="237506" y="763202"/>
                </a:cubicBezTo>
                <a:cubicBezTo>
                  <a:pt x="261659" y="769789"/>
                  <a:pt x="285007" y="779035"/>
                  <a:pt x="308758" y="786952"/>
                </a:cubicBezTo>
                <a:cubicBezTo>
                  <a:pt x="320633" y="790910"/>
                  <a:pt x="332240" y="795792"/>
                  <a:pt x="344384" y="798828"/>
                </a:cubicBezTo>
                <a:cubicBezTo>
                  <a:pt x="360218" y="802786"/>
                  <a:pt x="376252" y="806013"/>
                  <a:pt x="391885" y="810703"/>
                </a:cubicBezTo>
                <a:cubicBezTo>
                  <a:pt x="415865" y="817897"/>
                  <a:pt x="438442" y="830338"/>
                  <a:pt x="463137" y="834454"/>
                </a:cubicBezTo>
                <a:lnTo>
                  <a:pt x="534389" y="846329"/>
                </a:lnTo>
                <a:cubicBezTo>
                  <a:pt x="585849" y="842371"/>
                  <a:pt x="639142" y="848633"/>
                  <a:pt x="688768" y="834454"/>
                </a:cubicBezTo>
                <a:cubicBezTo>
                  <a:pt x="700804" y="831015"/>
                  <a:pt x="699511" y="811294"/>
                  <a:pt x="700644" y="798828"/>
                </a:cubicBezTo>
                <a:cubicBezTo>
                  <a:pt x="707463" y="723823"/>
                  <a:pt x="688702" y="644646"/>
                  <a:pt x="712519" y="573196"/>
                </a:cubicBezTo>
                <a:cubicBezTo>
                  <a:pt x="720436" y="549445"/>
                  <a:pt x="760020" y="557363"/>
                  <a:pt x="783771" y="549446"/>
                </a:cubicBezTo>
                <a:lnTo>
                  <a:pt x="819397" y="537571"/>
                </a:lnTo>
                <a:lnTo>
                  <a:pt x="890649" y="490069"/>
                </a:lnTo>
                <a:cubicBezTo>
                  <a:pt x="956098" y="446436"/>
                  <a:pt x="912096" y="467895"/>
                  <a:pt x="1033153" y="454443"/>
                </a:cubicBezTo>
                <a:cubicBezTo>
                  <a:pt x="1045028" y="450485"/>
                  <a:pt x="1056371" y="444222"/>
                  <a:pt x="1068779" y="442568"/>
                </a:cubicBezTo>
                <a:cubicBezTo>
                  <a:pt x="1116027" y="436268"/>
                  <a:pt x="1183095" y="469131"/>
                  <a:pt x="1211283" y="430693"/>
                </a:cubicBezTo>
                <a:cubicBezTo>
                  <a:pt x="1244139" y="385889"/>
                  <a:pt x="1219544" y="316220"/>
                  <a:pt x="1199407" y="264438"/>
                </a:cubicBezTo>
                <a:cubicBezTo>
                  <a:pt x="1189061" y="237834"/>
                  <a:pt x="1148339" y="237121"/>
                  <a:pt x="1128155" y="216937"/>
                </a:cubicBezTo>
                <a:cubicBezTo>
                  <a:pt x="1116280" y="205062"/>
                  <a:pt x="1102291" y="194977"/>
                  <a:pt x="1092530" y="181311"/>
                </a:cubicBezTo>
                <a:cubicBezTo>
                  <a:pt x="1082241" y="166905"/>
                  <a:pt x="1084613" y="141726"/>
                  <a:pt x="1068779" y="133809"/>
                </a:cubicBezTo>
                <a:cubicBezTo>
                  <a:pt x="1040234" y="119537"/>
                  <a:pt x="1005444" y="125892"/>
                  <a:pt x="973776" y="121934"/>
                </a:cubicBezTo>
                <a:cubicBezTo>
                  <a:pt x="843849" y="78626"/>
                  <a:pt x="1040648" y="147696"/>
                  <a:pt x="902524" y="86308"/>
                </a:cubicBezTo>
                <a:cubicBezTo>
                  <a:pt x="879646" y="76140"/>
                  <a:pt x="855023" y="70475"/>
                  <a:pt x="831272" y="62558"/>
                </a:cubicBezTo>
                <a:cubicBezTo>
                  <a:pt x="819397" y="58600"/>
                  <a:pt x="806062" y="57625"/>
                  <a:pt x="795646" y="50682"/>
                </a:cubicBezTo>
                <a:cubicBezTo>
                  <a:pt x="783771" y="42765"/>
                  <a:pt x="772785" y="33315"/>
                  <a:pt x="760020" y="26932"/>
                </a:cubicBezTo>
                <a:cubicBezTo>
                  <a:pt x="748824" y="21334"/>
                  <a:pt x="736538" y="18092"/>
                  <a:pt x="724394" y="15056"/>
                </a:cubicBezTo>
                <a:cubicBezTo>
                  <a:pt x="667580" y="852"/>
                  <a:pt x="718457" y="3181"/>
                  <a:pt x="617517" y="318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20"/>
          <p:cNvSpPr/>
          <p:nvPr/>
        </p:nvSpPr>
        <p:spPr>
          <a:xfrm>
            <a:off x="4392720" y="3770280"/>
            <a:ext cx="1206360" cy="836640"/>
          </a:xfrm>
          <a:custGeom>
            <a:avLst/>
            <a:gdLst/>
            <a:ahLst/>
            <a:rect l="l" t="t" r="r" b="b"/>
            <a:pathLst>
              <a:path w="1205827" h="837591">
                <a:moveTo>
                  <a:pt x="1199889" y="683212"/>
                </a:moveTo>
                <a:cubicBezTo>
                  <a:pt x="1205827" y="657482"/>
                  <a:pt x="1193504" y="627531"/>
                  <a:pt x="1188014" y="600084"/>
                </a:cubicBezTo>
                <a:cubicBezTo>
                  <a:pt x="1185559" y="587810"/>
                  <a:pt x="1177384" y="576914"/>
                  <a:pt x="1176138" y="564459"/>
                </a:cubicBezTo>
                <a:cubicBezTo>
                  <a:pt x="1169430" y="497384"/>
                  <a:pt x="1172982" y="429422"/>
                  <a:pt x="1164263" y="362578"/>
                </a:cubicBezTo>
                <a:cubicBezTo>
                  <a:pt x="1161025" y="337753"/>
                  <a:pt x="1161343" y="305213"/>
                  <a:pt x="1140512" y="291326"/>
                </a:cubicBezTo>
                <a:lnTo>
                  <a:pt x="1033634" y="220074"/>
                </a:lnTo>
                <a:lnTo>
                  <a:pt x="962382" y="172573"/>
                </a:lnTo>
                <a:cubicBezTo>
                  <a:pt x="938631" y="164656"/>
                  <a:pt x="915418" y="154894"/>
                  <a:pt x="891130" y="148822"/>
                </a:cubicBezTo>
                <a:cubicBezTo>
                  <a:pt x="875296" y="144864"/>
                  <a:pt x="859262" y="141637"/>
                  <a:pt x="843629" y="136947"/>
                </a:cubicBezTo>
                <a:cubicBezTo>
                  <a:pt x="819649" y="129753"/>
                  <a:pt x="772377" y="113196"/>
                  <a:pt x="772377" y="113196"/>
                </a:cubicBezTo>
                <a:cubicBezTo>
                  <a:pt x="764460" y="101321"/>
                  <a:pt x="759772" y="86486"/>
                  <a:pt x="748627" y="77570"/>
                </a:cubicBezTo>
                <a:cubicBezTo>
                  <a:pt x="738852" y="69750"/>
                  <a:pt x="725276" y="68150"/>
                  <a:pt x="713001" y="65695"/>
                </a:cubicBezTo>
                <a:cubicBezTo>
                  <a:pt x="685554" y="60206"/>
                  <a:pt x="657582" y="57778"/>
                  <a:pt x="629873" y="53820"/>
                </a:cubicBezTo>
                <a:cubicBezTo>
                  <a:pt x="468416" y="0"/>
                  <a:pt x="583635" y="29027"/>
                  <a:pt x="273614" y="41944"/>
                </a:cubicBezTo>
                <a:lnTo>
                  <a:pt x="202362" y="65695"/>
                </a:lnTo>
                <a:lnTo>
                  <a:pt x="166736" y="77570"/>
                </a:lnTo>
                <a:cubicBezTo>
                  <a:pt x="131696" y="130129"/>
                  <a:pt x="159388" y="105900"/>
                  <a:pt x="95484" y="125071"/>
                </a:cubicBezTo>
                <a:cubicBezTo>
                  <a:pt x="71504" y="132265"/>
                  <a:pt x="24232" y="148822"/>
                  <a:pt x="24232" y="148822"/>
                </a:cubicBezTo>
                <a:cubicBezTo>
                  <a:pt x="16315" y="160697"/>
                  <a:pt x="1901" y="170246"/>
                  <a:pt x="481" y="184448"/>
                </a:cubicBezTo>
                <a:cubicBezTo>
                  <a:pt x="0" y="189262"/>
                  <a:pt x="9822" y="281586"/>
                  <a:pt x="24232" y="303201"/>
                </a:cubicBezTo>
                <a:cubicBezTo>
                  <a:pt x="33548" y="317175"/>
                  <a:pt x="47983" y="326952"/>
                  <a:pt x="59858" y="338827"/>
                </a:cubicBezTo>
                <a:lnTo>
                  <a:pt x="83608" y="410079"/>
                </a:lnTo>
                <a:cubicBezTo>
                  <a:pt x="87566" y="421954"/>
                  <a:pt x="85069" y="438761"/>
                  <a:pt x="95484" y="445705"/>
                </a:cubicBezTo>
                <a:lnTo>
                  <a:pt x="131110" y="469456"/>
                </a:lnTo>
                <a:cubicBezTo>
                  <a:pt x="135068" y="528833"/>
                  <a:pt x="134569" y="588676"/>
                  <a:pt x="142985" y="647586"/>
                </a:cubicBezTo>
                <a:cubicBezTo>
                  <a:pt x="146526" y="672370"/>
                  <a:pt x="142985" y="710921"/>
                  <a:pt x="166736" y="718838"/>
                </a:cubicBezTo>
                <a:cubicBezTo>
                  <a:pt x="360591" y="783454"/>
                  <a:pt x="117347" y="706491"/>
                  <a:pt x="309240" y="754464"/>
                </a:cubicBezTo>
                <a:cubicBezTo>
                  <a:pt x="333528" y="760536"/>
                  <a:pt x="356741" y="770297"/>
                  <a:pt x="380492" y="778214"/>
                </a:cubicBezTo>
                <a:cubicBezTo>
                  <a:pt x="392367" y="782172"/>
                  <a:pt x="403973" y="787054"/>
                  <a:pt x="416117" y="790090"/>
                </a:cubicBezTo>
                <a:lnTo>
                  <a:pt x="463619" y="801965"/>
                </a:lnTo>
                <a:cubicBezTo>
                  <a:pt x="475494" y="809882"/>
                  <a:pt x="485399" y="822254"/>
                  <a:pt x="499245" y="825716"/>
                </a:cubicBezTo>
                <a:cubicBezTo>
                  <a:pt x="534020" y="834410"/>
                  <a:pt x="570278" y="837591"/>
                  <a:pt x="606123" y="837591"/>
                </a:cubicBezTo>
                <a:cubicBezTo>
                  <a:pt x="756596" y="837591"/>
                  <a:pt x="906964" y="829674"/>
                  <a:pt x="1057385" y="825716"/>
                </a:cubicBezTo>
                <a:cubicBezTo>
                  <a:pt x="1086359" y="816058"/>
                  <a:pt x="1105618" y="813109"/>
                  <a:pt x="1128637" y="790090"/>
                </a:cubicBezTo>
                <a:cubicBezTo>
                  <a:pt x="1138729" y="779998"/>
                  <a:pt x="1144471" y="766339"/>
                  <a:pt x="1152388" y="754464"/>
                </a:cubicBezTo>
                <a:cubicBezTo>
                  <a:pt x="1167062" y="710441"/>
                  <a:pt x="1193951" y="708942"/>
                  <a:pt x="1199889" y="6832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任意多边形 21"/>
          <p:cNvSpPr/>
          <p:nvPr/>
        </p:nvSpPr>
        <p:spPr>
          <a:xfrm>
            <a:off x="5261040" y="3451320"/>
            <a:ext cx="1430280" cy="977760"/>
          </a:xfrm>
          <a:custGeom>
            <a:avLst/>
            <a:gdLst/>
            <a:ahLst/>
            <a:rect l="l" t="t" r="r" b="b"/>
            <a:pathLst>
              <a:path w="1430610" h="977942">
                <a:moveTo>
                  <a:pt x="475013" y="918565"/>
                </a:moveTo>
                <a:cubicBezTo>
                  <a:pt x="486888" y="922524"/>
                  <a:pt x="499443" y="924843"/>
                  <a:pt x="510639" y="930441"/>
                </a:cubicBezTo>
                <a:cubicBezTo>
                  <a:pt x="523404" y="936824"/>
                  <a:pt x="533147" y="948569"/>
                  <a:pt x="546265" y="954191"/>
                </a:cubicBezTo>
                <a:cubicBezTo>
                  <a:pt x="561266" y="960620"/>
                  <a:pt x="578073" y="961583"/>
                  <a:pt x="593766" y="966067"/>
                </a:cubicBezTo>
                <a:cubicBezTo>
                  <a:pt x="605802" y="969506"/>
                  <a:pt x="617517" y="973984"/>
                  <a:pt x="629392" y="977942"/>
                </a:cubicBezTo>
                <a:cubicBezTo>
                  <a:pt x="688769" y="973984"/>
                  <a:pt x="748612" y="974483"/>
                  <a:pt x="807522" y="966067"/>
                </a:cubicBezTo>
                <a:cubicBezTo>
                  <a:pt x="832306" y="962526"/>
                  <a:pt x="853932" y="945421"/>
                  <a:pt x="878774" y="942316"/>
                </a:cubicBezTo>
                <a:lnTo>
                  <a:pt x="973776" y="930441"/>
                </a:lnTo>
                <a:cubicBezTo>
                  <a:pt x="997527" y="914607"/>
                  <a:pt x="1017948" y="891967"/>
                  <a:pt x="1045028" y="882940"/>
                </a:cubicBezTo>
                <a:cubicBezTo>
                  <a:pt x="1094194" y="866550"/>
                  <a:pt x="1070238" y="878007"/>
                  <a:pt x="1116280" y="847314"/>
                </a:cubicBezTo>
                <a:cubicBezTo>
                  <a:pt x="1128155" y="827522"/>
                  <a:pt x="1136885" y="805462"/>
                  <a:pt x="1151906" y="787937"/>
                </a:cubicBezTo>
                <a:cubicBezTo>
                  <a:pt x="1161194" y="777101"/>
                  <a:pt x="1176266" y="772948"/>
                  <a:pt x="1187532" y="764186"/>
                </a:cubicBezTo>
                <a:cubicBezTo>
                  <a:pt x="1211936" y="745205"/>
                  <a:pt x="1234380" y="723791"/>
                  <a:pt x="1258784" y="704810"/>
                </a:cubicBezTo>
                <a:cubicBezTo>
                  <a:pt x="1270050" y="696048"/>
                  <a:pt x="1283446" y="690196"/>
                  <a:pt x="1294410" y="681059"/>
                </a:cubicBezTo>
                <a:cubicBezTo>
                  <a:pt x="1385846" y="604862"/>
                  <a:pt x="1277209" y="680651"/>
                  <a:pt x="1365662" y="621682"/>
                </a:cubicBezTo>
                <a:cubicBezTo>
                  <a:pt x="1430610" y="524259"/>
                  <a:pt x="1422441" y="569176"/>
                  <a:pt x="1401288" y="431677"/>
                </a:cubicBezTo>
                <a:cubicBezTo>
                  <a:pt x="1399385" y="419305"/>
                  <a:pt x="1396357" y="406466"/>
                  <a:pt x="1389413" y="396051"/>
                </a:cubicBezTo>
                <a:cubicBezTo>
                  <a:pt x="1380097" y="382077"/>
                  <a:pt x="1368468" y="368581"/>
                  <a:pt x="1353787" y="360425"/>
                </a:cubicBezTo>
                <a:cubicBezTo>
                  <a:pt x="1331902" y="348267"/>
                  <a:pt x="1282535" y="336675"/>
                  <a:pt x="1282535" y="336675"/>
                </a:cubicBezTo>
                <a:cubicBezTo>
                  <a:pt x="1198575" y="280701"/>
                  <a:pt x="1302516" y="350948"/>
                  <a:pt x="1199408" y="277298"/>
                </a:cubicBezTo>
                <a:cubicBezTo>
                  <a:pt x="1187794" y="269002"/>
                  <a:pt x="1176824" y="259344"/>
                  <a:pt x="1163782" y="253547"/>
                </a:cubicBezTo>
                <a:cubicBezTo>
                  <a:pt x="1140904" y="243379"/>
                  <a:pt x="1116281" y="237714"/>
                  <a:pt x="1092530" y="229797"/>
                </a:cubicBezTo>
                <a:cubicBezTo>
                  <a:pt x="1092523" y="229795"/>
                  <a:pt x="1021286" y="206047"/>
                  <a:pt x="1021278" y="206046"/>
                </a:cubicBezTo>
                <a:lnTo>
                  <a:pt x="950026" y="194171"/>
                </a:lnTo>
                <a:cubicBezTo>
                  <a:pt x="910442" y="178337"/>
                  <a:pt x="869406" y="165735"/>
                  <a:pt x="831273" y="146669"/>
                </a:cubicBezTo>
                <a:cubicBezTo>
                  <a:pt x="815439" y="138752"/>
                  <a:pt x="799141" y="131702"/>
                  <a:pt x="783771" y="122919"/>
                </a:cubicBezTo>
                <a:cubicBezTo>
                  <a:pt x="771379" y="115838"/>
                  <a:pt x="761187" y="104965"/>
                  <a:pt x="748145" y="99168"/>
                </a:cubicBezTo>
                <a:cubicBezTo>
                  <a:pt x="725267" y="89000"/>
                  <a:pt x="700644" y="83334"/>
                  <a:pt x="676893" y="75417"/>
                </a:cubicBezTo>
                <a:lnTo>
                  <a:pt x="641267" y="63542"/>
                </a:lnTo>
                <a:cubicBezTo>
                  <a:pt x="629392" y="55625"/>
                  <a:pt x="619879" y="40784"/>
                  <a:pt x="605641" y="39791"/>
                </a:cubicBezTo>
                <a:cubicBezTo>
                  <a:pt x="35302" y="0"/>
                  <a:pt x="287432" y="80183"/>
                  <a:pt x="95002" y="16041"/>
                </a:cubicBezTo>
                <a:cubicBezTo>
                  <a:pt x="75210" y="19999"/>
                  <a:pt x="53151" y="17902"/>
                  <a:pt x="35626" y="27916"/>
                </a:cubicBezTo>
                <a:cubicBezTo>
                  <a:pt x="16667" y="38750"/>
                  <a:pt x="6096" y="80881"/>
                  <a:pt x="0" y="99168"/>
                </a:cubicBezTo>
                <a:cubicBezTo>
                  <a:pt x="3958" y="182295"/>
                  <a:pt x="4964" y="265616"/>
                  <a:pt x="11875" y="348550"/>
                </a:cubicBezTo>
                <a:cubicBezTo>
                  <a:pt x="12915" y="361024"/>
                  <a:pt x="14899" y="375325"/>
                  <a:pt x="23750" y="384176"/>
                </a:cubicBezTo>
                <a:cubicBezTo>
                  <a:pt x="43934" y="404360"/>
                  <a:pt x="71251" y="415843"/>
                  <a:pt x="95002" y="431677"/>
                </a:cubicBezTo>
                <a:lnTo>
                  <a:pt x="130628" y="455428"/>
                </a:lnTo>
                <a:cubicBezTo>
                  <a:pt x="138545" y="467303"/>
                  <a:pt x="143234" y="482138"/>
                  <a:pt x="154379" y="491054"/>
                </a:cubicBezTo>
                <a:cubicBezTo>
                  <a:pt x="164154" y="498874"/>
                  <a:pt x="178809" y="497331"/>
                  <a:pt x="190005" y="502929"/>
                </a:cubicBezTo>
                <a:cubicBezTo>
                  <a:pt x="202771" y="509312"/>
                  <a:pt x="213756" y="518763"/>
                  <a:pt x="225631" y="526680"/>
                </a:cubicBezTo>
                <a:cubicBezTo>
                  <a:pt x="248984" y="561709"/>
                  <a:pt x="250720" y="569359"/>
                  <a:pt x="285008" y="597932"/>
                </a:cubicBezTo>
                <a:cubicBezTo>
                  <a:pt x="295972" y="607069"/>
                  <a:pt x="308759" y="613765"/>
                  <a:pt x="320634" y="621682"/>
                </a:cubicBezTo>
                <a:lnTo>
                  <a:pt x="368135" y="764186"/>
                </a:lnTo>
                <a:cubicBezTo>
                  <a:pt x="372093" y="776061"/>
                  <a:pt x="373066" y="789397"/>
                  <a:pt x="380010" y="799812"/>
                </a:cubicBezTo>
                <a:cubicBezTo>
                  <a:pt x="395844" y="823563"/>
                  <a:pt x="403762" y="855230"/>
                  <a:pt x="427512" y="871064"/>
                </a:cubicBezTo>
                <a:lnTo>
                  <a:pt x="463137" y="894815"/>
                </a:lnTo>
                <a:lnTo>
                  <a:pt x="475013" y="918565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2"/>
          <p:cNvSpPr/>
          <p:nvPr/>
        </p:nvSpPr>
        <p:spPr>
          <a:xfrm>
            <a:off x="1871640" y="46972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4"/>
          <p:cNvSpPr/>
          <p:nvPr/>
        </p:nvSpPr>
        <p:spPr>
          <a:xfrm>
            <a:off x="500040" y="16430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6" descr="8.png"/>
          <p:cNvPicPr/>
          <p:nvPr/>
        </p:nvPicPr>
        <p:blipFill>
          <a:blip r:embed="rId2"/>
          <a:stretch/>
        </p:blipFill>
        <p:spPr>
          <a:xfrm>
            <a:off x="641520" y="2227320"/>
            <a:ext cx="3854160" cy="17287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3" descr="9.png"/>
          <p:cNvPicPr/>
          <p:nvPr/>
        </p:nvPicPr>
        <p:blipFill>
          <a:blip r:embed="rId3"/>
          <a:srcRect l="14316" t="12085" r="0" b="45317"/>
          <a:stretch/>
        </p:blipFill>
        <p:spPr>
          <a:xfrm>
            <a:off x="857160" y="4021200"/>
            <a:ext cx="3541680" cy="10414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24"/>
          <p:cNvSpPr/>
          <p:nvPr/>
        </p:nvSpPr>
        <p:spPr>
          <a:xfrm>
            <a:off x="1214280" y="4541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23" descr="9.png"/>
          <p:cNvPicPr/>
          <p:nvPr/>
        </p:nvPicPr>
        <p:blipFill>
          <a:blip r:embed="rId4"/>
          <a:srcRect l="14316" t="54381" r="0" b="0"/>
          <a:stretch/>
        </p:blipFill>
        <p:spPr>
          <a:xfrm>
            <a:off x="4929120" y="4195800"/>
            <a:ext cx="3651480" cy="11523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16" descr="8.png"/>
          <p:cNvPicPr/>
          <p:nvPr/>
        </p:nvPicPr>
        <p:blipFill>
          <a:blip r:embed="rId5"/>
          <a:stretch/>
        </p:blipFill>
        <p:spPr>
          <a:xfrm>
            <a:off x="4643280" y="2227320"/>
            <a:ext cx="4131000" cy="172872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860800" y="456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0"/>
          <p:cNvSpPr/>
          <p:nvPr/>
        </p:nvSpPr>
        <p:spPr>
          <a:xfrm>
            <a:off x="295920" y="417348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1"/>
          <p:cNvSpPr/>
          <p:nvPr/>
        </p:nvSpPr>
        <p:spPr>
          <a:xfrm>
            <a:off x="4537440" y="419580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二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10"/>
          <p:cNvPicPr/>
          <p:nvPr/>
        </p:nvPicPr>
        <p:blipFill>
          <a:blip r:embed="rId1"/>
          <a:stretch/>
        </p:blipFill>
        <p:spPr>
          <a:xfrm>
            <a:off x="857160" y="8874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525600" y="1652760"/>
            <a:ext cx="41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5" descr="10.png"/>
          <p:cNvPicPr/>
          <p:nvPr/>
        </p:nvPicPr>
        <p:blipFill>
          <a:blip r:embed="rId2"/>
          <a:stretch/>
        </p:blipFill>
        <p:spPr>
          <a:xfrm>
            <a:off x="214200" y="2405160"/>
            <a:ext cx="4130640" cy="1903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6" descr="11.png"/>
          <p:cNvPicPr/>
          <p:nvPr/>
        </p:nvPicPr>
        <p:blipFill>
          <a:blip r:embed="rId3"/>
          <a:stretch/>
        </p:blipFill>
        <p:spPr>
          <a:xfrm>
            <a:off x="4711680" y="2857680"/>
            <a:ext cx="4311720" cy="2714400"/>
          </a:xfrm>
          <a:prstGeom prst="rect">
            <a:avLst/>
          </a:prstGeom>
          <a:ln w="0">
            <a:noFill/>
          </a:ln>
        </p:spPr>
      </p:pic>
      <p:sp>
        <p:nvSpPr>
          <p:cNvPr id="853" name="Oval 7"/>
          <p:cNvSpPr/>
          <p:nvPr/>
        </p:nvSpPr>
        <p:spPr>
          <a:xfrm>
            <a:off x="471168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85800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471168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687060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"/>
          <p:cNvSpPr/>
          <p:nvPr/>
        </p:nvSpPr>
        <p:spPr>
          <a:xfrm>
            <a:off x="4716360" y="3860640"/>
            <a:ext cx="2165400" cy="5004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6870600" y="3865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857160" y="4308480"/>
            <a:ext cx="335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x3=24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答：一共收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西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826920" y="5300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答：需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纸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8-11-15T14:27:56Z</dcterms:modified>
  <cp:revision>1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